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6F2-A2FC-4E8D-B686-469C84F4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F4E-F0E9-47E2-8EE8-1C6A3548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D25-9C55-49A5-A041-7EF03265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EEEB-5451-4603-BCEC-C79361FF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E3AA-8946-4605-B0AE-1785DD82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7D8E-4FB6-4502-931D-74534BF4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CC17-60CE-4DC5-843A-30555008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EA1D-9492-41ED-BD06-804F363C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8FC8-5B08-4B2E-BDBD-CBB33065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FE66-1FC7-4386-9B3A-9D8547E3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1A2B-FDDB-447E-823D-1521BA8B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D09-382D-46FF-8C51-772AD48E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55F1-B6C1-4C23-BB60-81628F6C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69B4-8F9D-4FB9-997A-F9F4C12E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5021-F593-45D6-8376-51CD4B73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B40B-50A0-4342-A980-2F2E50A9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EEC8-821C-42E0-BDBF-0FCE2615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998-A506-42A1-9092-83381D39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341-390A-4DEC-BBFF-9025753B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24D-5D94-4609-985C-3BB5FAED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E12-0B55-42FB-9B47-94BA915E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8A12-9564-459F-9A92-30CB3804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9D70-E496-43B8-8A7B-CCC08703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C6C9-3F13-4F24-AF71-68A77F9D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FDFD-494C-447F-B790-CDD7E00D460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F148-A9F6-498D-9555-57A341F1DB2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1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lling Mrs. Jo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in the group that comes to save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rbert, Startop, and Trabb’s 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id they know that Pip was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found a mysterious note addressed to Pi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does Pip pick Magwitch up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ra’s Hou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Orlicks reason for seeking revenge on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claimed that Pip came between him and his lov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are you com between me and a young woman I liked?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rli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badly did Orlick hurt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n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2n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st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st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14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hurt his arm, but he had no major injur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month was it when Pip, Herbert, Magwitch, and Startop are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c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was one of those march days when the sun shines hot and the wind blows cold- when it is summer in the light and winter in the sha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code the hidden message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retg teaixapcots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b ahelcrs kesnic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eat Expecta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y Charles Dicke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attacks Pip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lge Orlic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does magwitch attack from the rowboa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ey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promise that Pip makes to Magwitch before he is taken away to jai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promises to stand by him, he says “I will never stir from your side, when I am suffered to be near you. Please God, I will be as true to you as you have been to me!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Orlick confess to do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lynn</cp:lastModifiedBy>
  <dcterms:modified xsi:type="dcterms:W3CDTF">2009-03-15T17:08:26Z</dcterms:modified>
  <cp:revision>29</cp:revision>
  <dc:subject/>
  <dc:title>Are You Smarter  Than a 5th Grader?</dc:title>
</cp:coreProperties>
</file>